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9.png" ContentType="image/png"/>
  <Override PartName="/ppt/media/image44.jpeg" ContentType="image/jpeg"/>
  <Override PartName="/ppt/media/image28.png" ContentType="image/png"/>
  <Override PartName="/ppt/media/image10.jpeg" ContentType="image/jpeg"/>
  <Override PartName="/ppt/media/image29.jpeg" ContentType="image/jpeg"/>
  <Override PartName="/ppt/media/image31.jpeg" ContentType="image/jpeg"/>
  <Override PartName="/ppt/media/image32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.png" ContentType="image/png"/>
  <Override PartName="/ppt/media/image43.jpeg" ContentType="image/jpeg"/>
  <Override PartName="/ppt/media/image38.wmf" ContentType="image/x-wmf"/>
  <Override PartName="/ppt/media/image11.wmf" ContentType="image/x-wmf"/>
  <Override PartName="/ppt/media/image17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713-11FF-45CB-A962-DC76AC9A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A34-F139-47D4-A17A-579FB401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741-9A4F-45AF-B298-6715B855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4DE-7EBD-4F5A-A84E-4FA95FBE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A2F-8BCE-4D8A-A045-241BF9C4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F46-3C55-4388-9308-FFA2E5D1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F0E-B3FB-4DDD-8B82-F614839D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24D-028C-4CAC-BD3C-56FEA787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DD9-CA5C-45F3-A83B-E4E13D16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31A-0F6E-4BA4-AAC4-FF608638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C76-E9EC-4EF0-9FFD-9AA89492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4DF-DE81-476D-AED3-21F9D91E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80F8-5282-4CBC-AFF4-029FCE477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95680" y="0"/>
            <a:ext cx="76320" cy="68580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057400"/>
            <a:ext cx="9220320" cy="763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295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   “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ВИЕ В ХРИСТА”</a:t>
            </a:r>
            <a:r>
              <a:rPr b="0" lang="bg-BG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“ХРИСТОС ВЪВ ВАС”</a:t>
            </a: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99"/>
                </a:solidFill>
                <a:latin typeface="Tahoma"/>
              </a:rPr>
              <a:t>обективно евангелие</a:t>
            </a:r>
            <a:r>
              <a:rPr b="0" lang="bg-BG" sz="32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убективно евангелие </a:t>
            </a:r>
            <a:r>
              <a:rPr b="0" lang="bg-BG" sz="2000" spc="-1" strike="noStrike">
                <a:solidFill>
                  <a:srgbClr val="ffff99"/>
                </a:solidFill>
                <a:latin typeface="Tahoma"/>
              </a:rPr>
              <a:t>1 Кор.1:30,31 Еф.1:3-6,2:13; Фил.3:9</a:t>
            </a:r>
            <a:r>
              <a:rPr b="0" lang="bg-BG" sz="2000" spc="-1" strike="noStrike">
                <a:solidFill>
                  <a:srgbClr val="ffccff"/>
                </a:solidFill>
                <a:latin typeface="Tahoma"/>
              </a:rPr>
              <a:t>     </a:t>
            </a:r>
            <a:r>
              <a:rPr b="0" lang="bg-BG" sz="2000" spc="-1" strike="noStrike">
                <a:solidFill>
                  <a:srgbClr val="ffffcc"/>
                </a:solidFill>
                <a:latin typeface="Tahoma"/>
              </a:rPr>
              <a:t>Рим.8:10;Гал.2:20;Еф.3:17;Кол.1: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 </a:t>
            </a:r>
            <a:r>
              <a:rPr b="0" lang="bg-BG" sz="3200" spc="-1" strike="noStrike">
                <a:solidFill>
                  <a:srgbClr val="ffff99"/>
                </a:solidFill>
                <a:latin typeface="Tahoma"/>
              </a:rPr>
              <a:t>вменена праведност</a:t>
            </a: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  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ридадена правед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05740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Завършено дело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е завършено дел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Tahoma"/>
              </a:rPr>
              <a:t>1 Кор.6:11; Еф. 1:3; Кол. 2:10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Рим.5:3-5; 8:18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1Кор.15:51-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429000"/>
            <a:ext cx="937260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У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ниверсално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 Персонално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Tahoma"/>
              </a:rPr>
              <a:t>Рим.5:18;2Кор.5:18,19;1Ин.2:2.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 Рим.8:9,10;2Кор.3:17,18;6:14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556160"/>
            <a:ext cx="9144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        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Вън от нас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ътре в нас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Tahoma"/>
              </a:rPr>
              <a:t>     </a:t>
            </a:r>
            <a:r>
              <a:rPr b="0" lang="bg-BG" sz="2400" spc="-1" strike="noStrike">
                <a:solidFill>
                  <a:srgbClr val="ffff99"/>
                </a:solidFill>
                <a:latin typeface="Tahoma"/>
              </a:rPr>
              <a:t>Рим.3:21,28; Фил. 3:9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Ин.15:1-5;17:23; Рим.8:9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791320"/>
            <a:ext cx="92203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	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Дава награда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е дава награда     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Tahoma"/>
              </a:rPr>
              <a:t>Деян.13:39; Рим.3:28; Гал.2:16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Мат.5:14-16;Ин.13:34,35; 14: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352680"/>
            <a:ext cx="92203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0"/>
            <a:ext cx="92203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76320" y="5715000"/>
            <a:ext cx="92203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03960" y="70956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М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ат.25: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9240" y="2004840"/>
            <a:ext cx="330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И</a:t>
            </a:r>
            <a:r>
              <a:rPr b="0" lang="bg-BG" sz="4400" spc="-1" strike="noStrike">
                <a:solidFill>
                  <a:srgbClr val="ffffcc"/>
                </a:solidFill>
                <a:latin typeface="Times New Roman"/>
              </a:rPr>
              <a:t> тъй, бдете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42840" y="0"/>
            <a:ext cx="4757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76520" y="4281480"/>
            <a:ext cx="11430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60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976560"/>
            <a:ext cx="1219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3429000"/>
            <a:ext cx="11430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5334120"/>
            <a:ext cx="62485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28              1928                1980           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76520" y="2819520"/>
            <a:ext cx="1143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TED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895480" y="28195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EUD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91120" y="2133720"/>
            <a:ext cx="114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EAD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1905120"/>
            <a:ext cx="6094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1981080"/>
            <a:ext cx="533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1981080"/>
            <a:ext cx="457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6024600" y="3034800"/>
            <a:ext cx="3274920" cy="100836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  <a:effectLst>
            <a:outerShdw dist="52300" dir="83643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D/EAD</a:t>
            </a: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4</a:t>
            </a:r>
            <a:r>
              <a:rPr b="1" lang="bg-BG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1" lang="bg-BG" sz="3600" spc="-1" strike="noStrike">
                <a:solidFill>
                  <a:srgbClr val="ffffff"/>
                </a:solidFill>
                <a:latin typeface="Tahoma"/>
              </a:rPr>
              <a:t>роблемът със западното мисле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609480"/>
            <a:ext cx="914400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яма извинение за тези, които считат, че не е необходимо, да ни се открива повече светлина за истината и че не допускаме грешки в тълкуването на Свещеното Писани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Фактът, че определени доктрини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считаме за истинни в нашата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църква в продължение на много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години, не трябва да се приема като доказателство, че те са верни. Заблужденията не се установяват с временна истина, правдата е безпристрастна. Ни една истинна доктрина не губи нищо при едно по-щателно изследван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213600"/>
            <a:ext cx="9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Counsels to Writers and Editors, page 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040" y="30240"/>
            <a:ext cx="90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99"/>
                </a:solidFill>
                <a:latin typeface="Tahoma"/>
              </a:rPr>
              <a:t>Духът на пророчество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6172200"/>
            <a:ext cx="8458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Заместническата жертва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0"/>
            <a:ext cx="9144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Темата ни е озаглавена - 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05120" y="9907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43000" y="1828800"/>
            <a:ext cx="3886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Христос - нашия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заместник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70160" y="792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 да покаже правдата Си в настоящото време и да се познае, че Той е праведен и че оправдава този, който вярва в Исус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cc00"/>
                </a:solidFill>
                <a:latin typeface="Tahoma"/>
              </a:rPr>
              <a:t>Рим. 3:2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70160" y="7920"/>
            <a:ext cx="687384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Бащите да не бъдат убивани заради децата, нито децата да бъдат убивани заради бащите; всеки заради собствения си грях да бъде умъртвяван.</a:t>
            </a:r>
            <a:r>
              <a:rPr b="0" lang="bg-BG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bg-BG" sz="2800" spc="-1" strike="noStrike">
                <a:solidFill>
                  <a:srgbClr val="ffcc00"/>
                </a:solidFill>
                <a:latin typeface="Tahoma"/>
              </a:rPr>
              <a:t>Второзак. 24: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81080" y="7920"/>
            <a:ext cx="71629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Какво искате да кажете вие, които употребявате тази поговорка относно Израелевата земя, като казвате: Бащите ни ядоха кисело грозде, а на децата оскоменяха зъби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70160" y="792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клевам се в живота Си, казва Господ Йехова, няма да има вече повод да употребите тази поговорка в Израе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cc00"/>
                </a:solidFill>
                <a:latin typeface="Tahoma"/>
              </a:rPr>
              <a:t>Йезекил 18:2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03960" y="70956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М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ат.25: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676520"/>
            <a:ext cx="4191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 тъй, бдете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защото не знаете ни деня, ни часа, в който Човешкият Син ще дойд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00400" y="0"/>
            <a:ext cx="4572000" cy="76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стих 20 пророк Иезекил прави изво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ушата, която съгрешава, ще умре; синът не ще понесе вината на баща, и баща не ще понесе вината на син, правдата на праведния при него си остава и беззаконието на беззаконния при него си ост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05120" y="9907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6248520"/>
            <a:ext cx="9144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заместническата жертва?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0"/>
            <a:ext cx="8915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Имаме ли проблем със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 rot="20201400">
            <a:off x="5074920" y="655560"/>
            <a:ext cx="4095720" cy="16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2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Tahoma"/>
              </a:rPr>
              <a:t>TEIT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Tahoma"/>
              <a:ea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33520"/>
            <a:ext cx="2667240" cy="586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 -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 -   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 -  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 -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-  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 -   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2895480"/>
            <a:ext cx="8380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304920"/>
            <a:ext cx="2743200" cy="62481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0" y="76320"/>
          <a:ext cx="9144000" cy="6781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6320"/>
                    <a:ext cx="914400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0" y="12060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големият змей - Отк. 12: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1872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таровременна змия - Отк.12: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3623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дявол - Отк.12: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50532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атана - Отк.12: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461628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ротивник - 1Пет.5: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136440"/>
            <a:ext cx="3048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князът на този свят - Йн.12:3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219320"/>
            <a:ext cx="3200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князът на въздуш- ната власт - Еф.2: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390760"/>
            <a:ext cx="30477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управител на тъм- нината - Еф.6: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350532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богът на този свят - 2Кор.4: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6162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рикаещ лъв - 1Пет.5: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5715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началник на бе-совете - Мар.3: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181080"/>
            <a:ext cx="297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клеветник на бра-тята - Отк.12: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12193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зтребител - 1Кор.10: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25146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баща - Йн.8: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35053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змамник - 2Йн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457200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баща на лъжата - Йн.8: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57150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радец - Йн.10: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80" y="5705640"/>
            <a:ext cx="297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еприятелят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Мат.13: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0" y="914400"/>
            <a:ext cx="65530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ahoma"/>
              </a:rPr>
              <a:t>VICAR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ahoma"/>
              </a:rPr>
              <a:t>FILII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ahoma"/>
              </a:rPr>
              <a:t>DEI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61460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5  1</a:t>
            </a:r>
            <a:r>
              <a:rPr b="1" lang="bg-BG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100 0  0   1 5   0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342900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0  1 50 1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18148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500 0 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60958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6 6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7160" y="109440"/>
            <a:ext cx="87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Tahoma"/>
              </a:rPr>
              <a:t>Претенция за божествен авторит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04920" y="838080"/>
            <a:ext cx="5943600" cy="39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ahoma"/>
              </a:rPr>
              <a:t>LATINV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ahoma"/>
              </a:rPr>
              <a:t>REX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ahoma"/>
              </a:rPr>
              <a:t>SACREDO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-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bg-BG" sz="3600" spc="-1" strike="noStrike">
                <a:solidFill>
                  <a:srgbClr val="ffffcc"/>
                </a:solidFill>
                <a:latin typeface="Tahoma"/>
              </a:rPr>
              <a:t>Претенция за човешки авторит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523880"/>
            <a:ext cx="83822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50  -  -  1  -  5 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3276720"/>
            <a:ext cx="34574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-   - 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1814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-  - 100 - - 500 - 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6095880"/>
            <a:ext cx="41148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6 6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0"/>
            <a:ext cx="8839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4400" spc="-1" strike="noStrike">
                <a:solidFill>
                  <a:srgbClr val="ffffcc"/>
                </a:solidFill>
                <a:latin typeface="Tahoma"/>
              </a:rPr>
              <a:t>Претенция за орган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06668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</a:t>
            </a: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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1337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0 300 1   30  10 20  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35053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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51055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3  20 20 30  8 200 10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6095880"/>
            <a:ext cx="2895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6 6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740720" y="-10008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00"/>
                </a:solidFill>
                <a:latin typeface="Symbol"/>
                <a:ea typeface="Symbol"/>
              </a:rPr>
              <a:t>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609480"/>
            <a:ext cx="4419720" cy="551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1" lang="bg-BG" sz="4000" spc="-1" strike="noStrike">
                <a:solidFill>
                  <a:srgbClr val="ffffcc"/>
                </a:solidFill>
                <a:latin typeface="Tahoma"/>
              </a:rPr>
              <a:t> това е вечен живот, да познаят Теб, единствения истинен Бог, и Исус Христос, Когото си изпрати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Йоан 17: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971800" y="1371600"/>
            <a:ext cx="3733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Изкупителната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cc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Божия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cc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любов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cc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286704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2000" y="76320"/>
            <a:ext cx="13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00"/>
                </a:solidFill>
                <a:latin typeface="Symbol"/>
                <a:ea typeface="Symbol"/>
              </a:rPr>
              <a:t></a:t>
            </a:r>
            <a:r>
              <a:rPr b="0" lang="en-A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15920"/>
            <a:ext cx="4953240" cy="173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Symbol"/>
                <a:ea typeface="Symbol"/>
              </a:rPr>
              <a:t></a:t>
            </a: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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</a:t>
            </a:r>
            <a:r>
              <a:rPr b="0" lang="en-US" sz="4800" spc="-1" strike="noStrike">
                <a:solidFill>
                  <a:srgbClr val="ff33cc"/>
                </a:solidFill>
                <a:latin typeface="Tahoma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68436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cc00"/>
                </a:solidFill>
                <a:latin typeface="Symbol"/>
                <a:ea typeface="Symbol"/>
              </a:rPr>
              <a:t>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268280"/>
            <a:ext cx="44197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</a:t>
            </a:r>
            <a:r>
              <a:rPr b="0" lang="en-US" sz="48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6320" y="4221000"/>
            <a:ext cx="4329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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5257800"/>
            <a:ext cx="46483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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3640" y="3213000"/>
            <a:ext cx="45118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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680" y="2205000"/>
            <a:ext cx="5258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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35280" y="6033960"/>
            <a:ext cx="13939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88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6093000"/>
            <a:ext cx="1368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-838080" y="1127160"/>
            <a:ext cx="9982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. Божият Син – 2: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. Верният свидетел – 1: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3. Първороденият от мъртвите – 1: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. Началото и Краят - 22: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. Алфа и Омега – 1: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6 .Всемогъщият – 1: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7. Амин - 3: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8. Първият и Последният – 1: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304920"/>
            <a:ext cx="9144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ahoma"/>
              </a:rPr>
              <a:t>Титлите на Исус Христос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ahoma"/>
              <a:ea typeface="Tahoma"/>
            </a:endParaRPr>
          </a:p>
        </p:txBody>
      </p:sp>
    </p:spTree>
  </p:cSld>
  <p:transition spd="slow"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-609480" y="1127160"/>
            <a:ext cx="9982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1. Човешкият Син – 1: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 Исус Христос – 1: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3. Началникът на земните царе - 1: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4. Лъвът от Юдовото племе - 5: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5. Давидовия корен - 5: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. Агнето -5: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7. Христос - 20: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8. Святият и Истинският - 3: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304920"/>
            <a:ext cx="9144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ahoma"/>
              </a:rPr>
              <a:t>Титлите на Исус Христос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ahoma"/>
              <a:ea typeface="Tahoma"/>
            </a:endParaRPr>
          </a:p>
        </p:txBody>
      </p:sp>
    </p:spTree>
  </p:cSld>
  <p:transition spd="slow"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-380880" y="685800"/>
            <a:ext cx="9524880" cy="63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О</a:t>
            </a:r>
            <a:r>
              <a:rPr b="0" lang="bg-BG" sz="3000" spc="-1" strike="noStrike">
                <a:solidFill>
                  <a:srgbClr val="ffffff"/>
                </a:solidFill>
                <a:latin typeface="Tahoma"/>
              </a:rPr>
              <a:t>нзи, Който държи седемте звезди в ръцете Си - 2: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О</a:t>
            </a:r>
            <a:r>
              <a:rPr b="0" lang="bg-BG" sz="3000" spc="-1" strike="noStrike">
                <a:solidFill>
                  <a:srgbClr val="ffffff"/>
                </a:solidFill>
                <a:latin typeface="Tahoma"/>
              </a:rPr>
              <a:t>ня, Който отваря и никой няма да затваря - 3:3</a:t>
            </a:r>
            <a:r>
              <a:rPr b="0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Tahoma"/>
              </a:rPr>
              <a:t>3. Начинателят на всичко, което Бог е създал - 3:1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sz="3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bg-BG" sz="3000" spc="-1" strike="noStrike">
                <a:solidFill>
                  <a:srgbClr val="ffffff"/>
                </a:solidFill>
                <a:latin typeface="Tahoma"/>
              </a:rPr>
              <a:t>Който вдъхновява пророческите духове - 22: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sz="3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bg-BG" sz="3000" spc="-1" strike="noStrike">
                <a:solidFill>
                  <a:srgbClr val="ffffff"/>
                </a:solidFill>
                <a:latin typeface="Tahoma"/>
              </a:rPr>
              <a:t>Божието слово - 19:13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sz="3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bg-BG" sz="3000" spc="-1" strike="noStrike">
                <a:solidFill>
                  <a:srgbClr val="ffffff"/>
                </a:solidFill>
                <a:latin typeface="Tahoma"/>
              </a:rPr>
              <a:t>Верен и Истинен - 19: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sz="3000" spc="-1" strike="noStrike">
                <a:solidFill>
                  <a:srgbClr val="ffffff"/>
                </a:solidFill>
                <a:latin typeface="Tahoma"/>
              </a:rPr>
              <a:t>. О</a:t>
            </a:r>
            <a:r>
              <a:rPr b="0" lang="bg-BG" sz="3000" spc="-1" strike="noStrike">
                <a:solidFill>
                  <a:srgbClr val="ffffff"/>
                </a:solidFill>
                <a:latin typeface="Tahoma"/>
              </a:rPr>
              <a:t>нзи, Който има седемте Божии духове и седемте звезди - 3: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С</a:t>
            </a:r>
            <a:r>
              <a:rPr b="0" lang="bg-BG" sz="3000" spc="-1" strike="noStrike">
                <a:solidFill>
                  <a:srgbClr val="ffffff"/>
                </a:solidFill>
                <a:latin typeface="Tahoma"/>
              </a:rPr>
              <a:t>ветлата утринна звезда - 22: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304920"/>
            <a:ext cx="9144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ahoma"/>
              </a:rPr>
              <a:t>Титлите на Исус Христос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ahoma"/>
              <a:ea typeface="Tahoma"/>
            </a:endParaRPr>
          </a:p>
        </p:txBody>
      </p:sp>
    </p:spTree>
  </p:cSld>
  <p:transition spd="slow"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72000" y="228600"/>
            <a:ext cx="4800600" cy="612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cc"/>
                </a:solidFill>
                <a:latin typeface="Tahoma"/>
              </a:rPr>
              <a:t>Човешка приро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cc"/>
                </a:solidFill>
                <a:latin typeface="Tahoma"/>
              </a:rPr>
              <a:t>това, което е стана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Син чове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шки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— Лк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19: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Роден от жен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Гал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4: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Плът — Ин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1: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Образ на слуга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Фил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2: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Гре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шен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 2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Кор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5:21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Зависим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Ин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5:19, 3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Смърт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Евр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2:14, 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Под закон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Гал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4: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228600"/>
            <a:ext cx="4267080" cy="685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cc"/>
                </a:solidFill>
                <a:latin typeface="Tahoma"/>
              </a:rPr>
              <a:t>Божествена прир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cc"/>
                </a:solidFill>
                <a:latin typeface="Tahoma"/>
              </a:rPr>
              <a:t>това, което Той 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1. С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 Божий — Лк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1:3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Самосъществуващ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Ин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1: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Дух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Ин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4:2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Рав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 на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Бог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Фил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2: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Безгреш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 2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Кор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5:2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Независим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Ин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10:1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Бе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м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ъ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рт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 1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Тим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1:1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Законодател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Иак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4: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0"/>
            <a:ext cx="152280" cy="6858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462f17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462f17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-380880" y="0"/>
            <a:ext cx="9524880" cy="682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cc"/>
                </a:solidFill>
                <a:latin typeface="Tahoma"/>
              </a:rPr>
              <a:t>По природа ние сме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Духовно м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ъ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тв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но в Христ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ос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духовно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 сме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ожи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вя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ли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Еф.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2: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Грешни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ц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и, но в Христ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ос сме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ста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ли праведни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— 2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Кор.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5:2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Ос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ъ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ден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но в Христ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ос сме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оправдан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Рим.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5:1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С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ове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чове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шки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но в Христ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ос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с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ме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Бож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ии чада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— 1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Ин.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3: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 Привързани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к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ъм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ад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но в Христ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ос поставени на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Небеса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та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Еф.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2: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Смъртн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но в Христ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ос сме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ста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ли бе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м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ъ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тни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— 2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Тим.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1:8-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Бедн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но в Христ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ос сме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ста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ли богати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— 2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Кор.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8: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По долу от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ангелите, но в Христ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ос сме съ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наследни</a:t>
            </a:r>
            <a:r>
              <a:rPr b="1" lang="bg-BG" sz="2600" spc="-1" strike="noStrike">
                <a:solidFill>
                  <a:srgbClr val="ffffff"/>
                </a:solidFill>
                <a:latin typeface="Tahoma"/>
              </a:rPr>
              <a:t>ци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Евр.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2:6-12;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Рим.</a:t>
            </a:r>
            <a:r>
              <a:rPr b="1" sz="2600" spc="-1" strike="noStrike">
                <a:solidFill>
                  <a:srgbClr val="ffffff"/>
                </a:solidFill>
                <a:latin typeface="Tahoma"/>
              </a:rPr>
              <a:t> 8:17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21595200">
            <a:off x="223920" y="588276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Човешкото естество на Христос разрешава проблема със заместничество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932040"/>
            <a:ext cx="60199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З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щото любовта Христова ни принуждава, като разсъждаваме така, че понеже един е умрял за всичките, то всички са умрели - 2Кор.5: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ойто сам понесе в тялото Си нашите грехове, тъй щото като сме умрели за греховете, да живеем за правдата;... 1Петр.2: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822240"/>
            <a:ext cx="601992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Верно е това слово: ако сме умрели с Него, то и ще живеем с Него. 2Тим.2: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Затуй, ако някой е в Христа, той е ново създание; старото премина; ето стана ново - 2Кор.3: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762120" y="304920"/>
            <a:ext cx="3581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4303641" blurRad="0" rotWithShape="0">
                    <a:srgbClr val="d82900"/>
                  </a:outerShdw>
                </a:effectLst>
                <a:latin typeface="Tahoma"/>
              </a:rPr>
              <a:t>АГАПЕ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4303641" blurRad="0" rotWithShape="0">
                  <a:srgbClr val="d829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257800" y="304920"/>
            <a:ext cx="3505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ahoma"/>
              </a:rPr>
              <a:t>ФИЛИ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05120"/>
            <a:ext cx="3581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d82900"/>
                  </a:outerShdw>
                </a:effectLst>
                <a:latin typeface="Tahoma"/>
              </a:rPr>
              <a:t>безусловна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d829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34120" y="205740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ahoma"/>
              </a:rPr>
              <a:t>услов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1447920"/>
            <a:ext cx="4343400" cy="304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d82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0"/>
            <a:ext cx="380880" cy="63219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761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4120" y="3124080"/>
            <a:ext cx="3581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ahoma"/>
              </a:rPr>
              <a:t>изменчи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31240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d82900"/>
                  </a:outerShdw>
                </a:effectLst>
                <a:latin typeface="Tahoma"/>
              </a:rPr>
              <a:t>неизменна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d829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4114800"/>
            <a:ext cx="358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d82900"/>
                  </a:outerShdw>
                </a:effectLst>
                <a:latin typeface="Tahoma"/>
              </a:rPr>
              <a:t>себеотрицателна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d829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34120" y="4038480"/>
            <a:ext cx="3504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ahoma"/>
              </a:rPr>
              <a:t>себелюби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334120"/>
            <a:ext cx="4495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1" lang="bg-BG" sz="2400" spc="-1" strike="noStrike">
                <a:solidFill>
                  <a:srgbClr val="ffffcc"/>
                </a:solidFill>
                <a:latin typeface="Tahoma"/>
              </a:rPr>
              <a:t>иж: Еф. 2:4-6; Тит. 3:3-5; Тит 2:11; Ин. 13:1; Рим. 8:35,38,39; 2Кор. 5:14,1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5410080"/>
            <a:ext cx="4375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cc"/>
                </a:solidFill>
                <a:latin typeface="Tahoma"/>
              </a:rPr>
              <a:t>Виж: Ис.53:6; ср.Фил. 2:21; Рим. 3:2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523880" y="2438280"/>
            <a:ext cx="58676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ahoma"/>
              </a:rPr>
              <a:t>Проблемъ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ahoma"/>
              </a:rPr>
              <a:t>с грех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3240"/>
          <a:ext cx="9144000" cy="6851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3638520"/>
            <a:ext cx="4191120" cy="3143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209680" y="1366920"/>
            <a:ext cx="4572000" cy="3429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209680" y="129528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100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403880"/>
            <a:ext cx="7772400" cy="7034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bg-BG" sz="4000" spc="-1" strike="noStrike">
                <a:solidFill>
                  <a:srgbClr val="ffff99"/>
                </a:solidFill>
                <a:latin typeface="Tahoma"/>
              </a:rPr>
              <a:t>КАКВО Е ТОВА ЕВАНГЕЛ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5120" y="609480"/>
            <a:ext cx="3897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ccecff"/>
                </a:solidFill>
                <a:latin typeface="Tahoma"/>
              </a:rPr>
              <a:t>имляни 1:16,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76320" y="1447920"/>
            <a:ext cx="9220320" cy="55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щото не се срамувам от благовестиет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онеже е Божия сила за спас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а всекиго, който вярва …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 в него се откр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равдата, която е от Б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чрез вяра към вя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акто е писа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ffff99"/>
                </a:solidFill>
                <a:latin typeface="Tahoma"/>
              </a:rPr>
              <a:t>“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Праведния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чрез вя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ще живее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1676520"/>
            <a:ext cx="7467480" cy="51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пиши и начертай ясно на скрижали, та, който чете, лесно да може да прочете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то горделивата душ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не ще се успокои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 праведният чре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вярата си ще живее.</a:t>
            </a:r>
            <a:r>
              <a:rPr b="0" lang="bg-BG" sz="3400" spc="-1" strike="noStrike">
                <a:solidFill>
                  <a:srgbClr val="ffcc00"/>
                </a:solidFill>
                <a:latin typeface="Tahoma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685800"/>
            <a:ext cx="2438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ffcc00"/>
                </a:solidFill>
                <a:latin typeface="Tahoma"/>
              </a:rPr>
              <a:t>Авак. 2:2-4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16:06:18Z</dcterms:created>
  <dc:creator>D.N.T.</dc:creator>
  <dc:description/>
  <dc:language>en-US</dc:language>
  <cp:lastModifiedBy>zxy</cp:lastModifiedBy>
  <dcterms:modified xsi:type="dcterms:W3CDTF">2003-07-11T11:37:43Z</dcterms:modified>
  <cp:revision>19</cp:revision>
  <dc:subject/>
  <dc:title>No Slide Title</dc:title>
</cp:coreProperties>
</file>